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6.gif" ContentType="image/gif"/>
  <Override PartName="/ppt/media/image3.gif" ContentType="image/gif"/>
  <Override PartName="/ppt/media/image6.wmf" ContentType="image/x-wmf"/>
  <Override PartName="/ppt/media/image7.png" ContentType="image/png"/>
  <Override PartName="/ppt/media/image1.jpeg" ContentType="image/jpeg"/>
  <Override PartName="/ppt/media/drumroll.wav" ContentType="audio/x-wav"/>
  <Override PartName="/ppt/media/image21.wmf" ContentType="image/x-wmf"/>
  <Override PartName="/ppt/media/image19.wmf" ContentType="image/x-wmf"/>
  <Override PartName="/ppt/media/image27.jpeg" ContentType="image/jpeg"/>
  <Override PartName="/ppt/media/image10.jpeg" ContentType="image/jpeg"/>
  <Override PartName="/ppt/media/image11.gif" ContentType="image/gif"/>
  <Override PartName="/ppt/media/image28.jpeg" ContentType="image/jpeg"/>
  <Override PartName="/ppt/media/image15.gif" ContentType="image/gif"/>
  <Override PartName="/ppt/media/image8.gif" ContentType="image/gif"/>
  <Override PartName="/ppt/media/image4.wmf" ContentType="image/x-wmf"/>
  <Override PartName="/ppt/media/image12.jpeg" ContentType="image/jpeg"/>
  <Override PartName="/ppt/media/image13.jpeg" ContentType="image/jpeg"/>
  <Override PartName="/ppt/media/image18.gif" ContentType="image/gif"/>
  <Override PartName="/ppt/media/image14.jpeg" ContentType="image/jpeg"/>
  <Override PartName="/ppt/media/image5.wmf" ContentType="image/x-wmf"/>
  <Override PartName="/ppt/media/image9.gif" ContentType="image/gif"/>
  <Override PartName="/ppt/media/laser.wav" ContentType="audio/x-wav"/>
  <Override PartName="/ppt/media/image16.jpeg" ContentType="image/jpeg"/>
  <Override PartName="/ppt/media/chimes.wav" ContentType="audio/x-wav"/>
  <Override PartName="/ppt/media/image17.png" ContentType="image/png"/>
  <Override PartName="/ppt/media/image20.wmf" ContentType="image/x-wmf"/>
  <Override PartName="/ppt/media/image22.png" ContentType="image/png"/>
  <Override PartName="/ppt/media/image23.gif" ContentType="image/gif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F48-AA38-431F-927F-3CA72E88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F10-C403-4E8B-9067-013BF73D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02D-A295-4B3D-A937-8E9160EB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76A-FD74-4850-BA9A-EAA3C7F7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0BA-EB87-4596-8504-88CDD611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557-6F6C-4CE8-A787-688AD9F2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AD3-1476-4F33-9E9D-9660842C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5CE-077A-49B8-B87D-EC3F05F3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8D8-3A2C-44AE-848F-DE279F08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447-0969-4346-B4C9-78F63A12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8F0-E6DC-44A5-919E-733C3E85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F31-5B93-4BD3-84E7-9BBF677D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5C35-E11D-4D1A-B18A-7CE03B986A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gi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2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drumroll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771640" y="4653000"/>
            <a:ext cx="5616720" cy="1828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56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03480" y="2155680"/>
            <a:ext cx="656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838080"/>
            <a:ext cx="7925040" cy="304920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存在问题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偏科严重，主要是英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343400"/>
            <a:ext cx="9144000" cy="23115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原因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学习态度（重视、勤奋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学习方法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英语基础以及与老师的沟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304920"/>
            <a:ext cx="817236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本学期学生情况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413000"/>
            <a:ext cx="59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6360" y="1978200"/>
            <a:ext cx="8459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１、大部分学生基本进入初三状态，学习自觉性、主动性增强。（表现在预习、复习、作业、读书以及宿舍的自觉管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53352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２、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黑体"/>
              </a:rPr>
              <a:t>有些学生学习目的性不明确，导致学习无动力，主动性欠缺，没有充分挖掘自己的潜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240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背书要反复强调．作业虽然能够按时上交，但完成作业的质量不高，有些甚至以抄答案来应付交任务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目前已开始进入复习，学生的自觉性和主动性尤为重要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419112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不按要求做练习、作业，没能合理安排时间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特别是中午和周六、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基础训练不够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停留在听懂就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不再深刻思考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523880"/>
            <a:ext cx="795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３、有些学生的学习方法有待进一步的指导和提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600200"/>
            <a:ext cx="944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有部分同学课前不去预习，课后又不去复习和总结．听课显得有些被动，造成学习效率不够高．有些同学很为苦读，却缺乏巧读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24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12720" y="1413000"/>
            <a:ext cx="9369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、大部分同学心理素质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　有待家长和老师的重点关注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765840" y="4365720"/>
            <a:ext cx="270216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258920" y="1341000"/>
            <a:ext cx="64087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学校教育必须要有家庭教育的配合，家庭教育既是学校教育的基础，又是学校教育的延续与升华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53280" y="1519200"/>
            <a:ext cx="1279440" cy="685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9640" y="549360"/>
            <a:ext cx="8280360" cy="57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在外留宿。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回家很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带同学回家住宿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打电话时间长，次数多。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受伤回家。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超消费，上网吧、酒吧、游戏厅、舞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超出友谊的交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成绩突然下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穿奇装异服，爱好打扮，沉默寡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老是玩电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4920" y="33336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需要注意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十问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00" y="249228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尽量表扬孩子，孩子具有一定的自信心，才会肯去学习要使孩子每天都感觉到他在学习上取得了一定进步，哪怕是改正一个缺点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4581360"/>
            <a:ext cx="74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多关心孩子的学习内容和实际进步程度，家长要多询问孩子最近学习了什么掌握得如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628640"/>
            <a:ext cx="77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创造和睦、祥和、稳定的家庭气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4520" y="404640"/>
            <a:ext cx="42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平时应注意的问题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经常给孩子制订几个容易达到的小目标，这样可以使孩子感觉到能够做到，树立孩子自信心，从而有利于孩子发挥出潜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0384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尽量不要在孩子面前议论老师，尤其不要在孩子面前贬低老师。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362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订下家庭学习规矩，并且自始至终执行，以形成良好的学习习惯，作息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685800"/>
            <a:ext cx="845820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祝家长们事业一帆风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孩子们学业有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!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衷心祝愿您的孩子在实验中学健康幸福的成长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238880" y="4114800"/>
            <a:ext cx="167184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838440" cy="2079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700360" y="3716280"/>
            <a:ext cx="297180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550480" y="333360"/>
            <a:ext cx="273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华文行楷"/>
              </a:rPr>
              <a:t>中考科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华文行楷"/>
              </a:rPr>
              <a:t>共</a:t>
            </a: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华文行楷"/>
              </a:rPr>
              <a:t>820</a:t>
            </a: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华文行楷"/>
              </a:rPr>
              <a:t>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3280" y="765000"/>
            <a:ext cx="3990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1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数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1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120+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口语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化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物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政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体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史地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1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077320" y="5791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5111640" cy="1439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85345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24000" y="765000"/>
            <a:ext cx="83883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各位家长和任课老师自由交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553080" y="3716280"/>
            <a:ext cx="3200400" cy="3141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971800" y="129528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取得的成绩</a:t>
            </a:r>
            <a:endParaRPr b="1" lang="en-US" sz="6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666880"/>
            <a:ext cx="3504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2286000"/>
            <a:ext cx="4114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月考期中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征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运动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常规评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60680" y="1241280"/>
            <a:ext cx="557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1197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华文彩云"/>
              </a:rPr>
              <a:t>谢谢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各位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黑体"/>
              </a:rPr>
              <a:t>家长   合作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46016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210960"/>
            <a:ext cx="2671560" cy="6242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228600"/>
            <a:ext cx="1717920" cy="623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946240" y="209520"/>
            <a:ext cx="1725840" cy="6264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5400000">
            <a:off x="5333400" y="2743200"/>
            <a:ext cx="51818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八科成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81080" y="68580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主科成绩年级段进步显著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0960" y="1549440"/>
            <a:ext cx="7997760" cy="79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一．进步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100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名以上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苏冬美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进步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145) 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苏  洲（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157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黎浩健（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139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）    黎元炜（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115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谢玉良（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122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）     梁凤开（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124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）     叶俊达（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113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）     梁昌灏（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106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）冼月秀（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103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）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林建伟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(10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张辉兵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(10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5335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一些学生考试成绩退步的原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05120"/>
            <a:ext cx="727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、对考试不重视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92428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733920"/>
            <a:ext cx="763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、学习方法不合适。（习惯差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819520"/>
            <a:ext cx="82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、学习态度差。（学习不刻苦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7676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920" y="609480"/>
            <a:ext cx="1066680" cy="6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03480" y="2155680"/>
            <a:ext cx="656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43000" y="22860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上学期期末八科成绩在县排名情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80880" y="1523880"/>
          <a:ext cx="8763120" cy="485928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1066680"/>
                <a:gridCol w="990720"/>
                <a:gridCol w="990360"/>
                <a:gridCol w="990720"/>
                <a:gridCol w="914400"/>
                <a:gridCol w="914400"/>
                <a:gridCol w="9144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县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县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县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1124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县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县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县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825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县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3000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县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原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初二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初二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36360" y="1773360"/>
            <a:ext cx="9601200" cy="52707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尖子生（八科县前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名）潜力有待进一步开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梁聪   孙玉娟     黎元炜    曾万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甘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志诚（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103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） 黄达富（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105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）甘秋婵（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110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）盘振坚（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125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）苏冬美（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116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）叶伟婷（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132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伍淑娴（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160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）       梁华建（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173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513080" cy="1163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68360" y="333360"/>
            <a:ext cx="2592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66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反映问题：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6600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1371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中、后层生潜力还很大，需要提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513080" cy="1163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8360" y="333360"/>
            <a:ext cx="2592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66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反映问题：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6600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572000"/>
            <a:ext cx="89154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廖献典（班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3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名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盘子将      梁昌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陆云亮        刘俊宏       王巧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达聪    孙楚彬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黎广添（班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4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362320"/>
            <a:ext cx="914400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谢玉良（班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26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名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叶俊达      李  鲜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苏  洲      徐建淇       黎浩健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彤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黎健根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李秋琳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（班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34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名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03480" y="2155680"/>
            <a:ext cx="656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762120"/>
            <a:ext cx="754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上学期期末各科成绩排名情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80880" y="2819520"/>
          <a:ext cx="8763120" cy="294156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1067040"/>
                <a:gridCol w="990360"/>
                <a:gridCol w="990720"/>
                <a:gridCol w="990720"/>
                <a:gridCol w="914400"/>
                <a:gridCol w="914400"/>
                <a:gridCol w="914400"/>
              </a:tblGrid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历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地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平均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8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6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87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86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7:39:4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42:48Z</dcterms:modified>
  <cp:revision>35</cp:revision>
  <dc:subject>主题班会课件(分28大类): http://shop62905894.taobao.com</dc:subject>
  <dc:title>主题班会课件(分28大类): http://shop62905894.taobao.com</dc:title>
</cp:coreProperties>
</file>